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705C-23AC-4A21-9D3B-0E2EC69314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9B1F-A915-4086-9E8E-E5014BF82B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C909-0732-458C-BC8B-CF756D6C072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4E21-C118-4992-9FA3-A2842D83C6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CC4C-2A13-4AE3-B410-EEBEA6FEDF8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2924-B0FA-4621-913D-63A8A7B2D09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8007-FE47-4ED3-9F2E-CA881A5EF1B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6C90-1BDA-4DC2-A4D9-04B04A8711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C8B6-1799-4E5D-8A1D-E37693056BC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9546-3B10-42E3-9FE4-998C731B6F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2556-A5FB-4749-B130-32DE8C825D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2A9C-CFF5-4585-B694-3A19A9B8BC81}" type="slidenum">
              <a:rPr b="0" lang="ko-K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9E6D-541F-4CF8-BCA0-D60D7D204E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99DE-F52A-4A47-BA30-040DBA4F766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5F0A-A411-41C1-A3C4-2C0E71398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BABF-1477-4F46-BBE9-EB0F22BC9F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A4B-C573-453B-A245-2FD74A2DC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AD4-E7B9-4B73-B0F1-E451717D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2EB-C841-463E-83C8-21F4AA2F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018F-43E1-4B3E-9765-2B8B65DA2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1274-CF79-4334-A66E-9A9E5592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3DC-E8BD-4684-84CA-3A12F09F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EBF-88FB-41F9-B7E1-3A649DF4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69B-A78A-4822-B427-70B5161B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8D5-F377-4BF2-8C3E-BE167B71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A9A8-E34F-4214-9444-07A366DC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293F-4D8A-4720-94E7-43309980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991-E6FD-463D-8620-1BDEFA4B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3DD7-B344-4EA2-9AF1-84C3BC76E5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1052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3" descr=""/>
          <p:cNvPicPr/>
          <p:nvPr/>
        </p:nvPicPr>
        <p:blipFill>
          <a:blip r:embed="rId1"/>
          <a:stretch/>
        </p:blipFill>
        <p:spPr>
          <a:xfrm>
            <a:off x="355680" y="506520"/>
            <a:ext cx="8432640" cy="6235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23760" y="1593720"/>
            <a:ext cx="9096480" cy="3670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"/>
          <p:cNvPicPr/>
          <p:nvPr/>
        </p:nvPicPr>
        <p:blipFill>
          <a:blip r:embed="rId1"/>
          <a:stretch/>
        </p:blipFill>
        <p:spPr>
          <a:xfrm>
            <a:off x="279360" y="1844640"/>
            <a:ext cx="858528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"/>
          <p:cNvPicPr/>
          <p:nvPr/>
        </p:nvPicPr>
        <p:blipFill>
          <a:blip r:embed="rId1"/>
          <a:stretch/>
        </p:blipFill>
        <p:spPr>
          <a:xfrm>
            <a:off x="407880" y="1073160"/>
            <a:ext cx="832824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3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834240" cy="44258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407880" y="1069920"/>
            <a:ext cx="832824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"/>
          <p:cNvPicPr/>
          <p:nvPr/>
        </p:nvPicPr>
        <p:blipFill>
          <a:blip r:embed="rId1"/>
          <a:stretch/>
        </p:blipFill>
        <p:spPr>
          <a:xfrm>
            <a:off x="36360" y="1236600"/>
            <a:ext cx="907128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12:06:56Z</dcterms:created>
  <dc:creator>shentong6903@163.com</dc:creator>
  <dc:description/>
  <dc:language>en-US</dc:language>
  <cp:lastModifiedBy>Joanna</cp:lastModifiedBy>
  <cp:lastPrinted>2017-05-02T00:32:14Z</cp:lastPrinted>
  <dcterms:modified xsi:type="dcterms:W3CDTF">2019-05-16T01:46:35Z</dcterms:modified>
  <cp:revision>1199</cp:revision>
  <dc:subject/>
  <dc:title>幻灯片 1</dc:title>
</cp:coreProperties>
</file>